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C858-F7F0-44F5-9ECE-6B651B037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3AB7-02B0-44FC-96C9-C6D12C8B3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BEBC-086F-4FF8-950C-A187402B0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EF3B-648C-46CE-9F70-22BE33880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5D89-15D0-4A90-B07D-EDB3426A4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6D42-86E8-405F-A381-85E91834D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12FF-9C11-4C38-8D1B-867C6714F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1C95-D8A3-405A-BB39-81F19AA6C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C1D4-030F-4F29-A2CF-1071F70FF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8B6E-645A-4465-861F-78A561A36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013B-A060-4300-9262-AD14FE8F7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8883-D4BE-49EB-99AB-16602DA8F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6C77-9C6B-4E14-B190-0F1CE548A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82B3-00FF-46D6-810B-C69127B7E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E647-4448-40E6-A250-C1EE5E273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BF3E-0D55-4746-8DB2-5392787BF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BA2E-FE23-4511-9604-0F46D8AF5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9189-B0CD-4709-98D1-4F007185A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1705-E8D2-434E-AEE3-7FAEE9A5E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0F85-801A-4790-95E3-96905019D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9FC7-11CC-4499-B2AA-A5B4D798BCF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4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AutoShape 8"/>
          <p:cNvCxnSpPr>
            <a:stCxn id="346" idx="3"/>
            <a:endCxn id="3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0" name="AutoShape 9"/>
          <p:cNvCxnSpPr>
            <a:stCxn id="343" idx="0"/>
            <a:endCxn id="3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354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AutoShape 19"/>
          <p:cNvCxnSpPr>
            <a:stCxn id="356" idx="2"/>
            <a:endCxn id="3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8" name="AutoShape 21"/>
          <p:cNvCxnSpPr>
            <a:stCxn id="356" idx="2"/>
            <a:endCxn id="354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9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AutoShape 24"/>
          <p:cNvCxnSpPr>
            <a:stCxn id="355" idx="3"/>
            <a:endCxn id="352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368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372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5" name="AutoShape 38"/>
          <p:cNvCxnSpPr>
            <a:stCxn id="364" idx="0"/>
            <a:endCxn id="372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AutoShape 41"/>
          <p:cNvCxnSpPr>
            <a:stCxn id="379" idx="0"/>
            <a:endCxn id="368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9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8"/>
          <p:cNvSpPr/>
          <p:nvPr/>
        </p:nvSpPr>
        <p:spPr>
          <a:xfrm>
            <a:off x="1455120" y="1790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386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390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394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397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01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3: Physical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411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414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6" name="AutoShape 12"/>
          <p:cNvCxnSpPr>
            <a:stCxn id="409" idx="2"/>
            <a:endCxn id="41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7" name="AutoShape 13"/>
          <p:cNvCxnSpPr>
            <a:stCxn id="409" idx="2"/>
            <a:endCxn id="41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18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27"/>
          <p:cNvCxnSpPr>
            <a:stCxn id="421" idx="0"/>
            <a:endCxn id="42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2" name="AutoShape 28"/>
          <p:cNvCxnSpPr>
            <a:stCxn id="420" idx="0"/>
            <a:endCxn id="42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3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AutoShape 30"/>
          <p:cNvCxnSpPr>
            <a:stCxn id="429" idx="0"/>
            <a:endCxn id="43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AutoShape 32"/>
          <p:cNvCxnSpPr>
            <a:stCxn id="426" idx="0"/>
            <a:endCxn id="43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7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AutoShape 36"/>
          <p:cNvCxnSpPr>
            <a:stCxn id="423" idx="0"/>
            <a:endCxn id="43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1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38"/>
          <p:cNvCxnSpPr>
            <a:stCxn id="427" idx="0"/>
            <a:endCxn id="44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447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AutoShape 45"/>
          <p:cNvSpPr/>
          <p:nvPr/>
        </p:nvSpPr>
        <p:spPr>
          <a:xfrm flipV="1">
            <a:off x="5621400" y="2238120"/>
            <a:ext cx="3340080" cy="3892320"/>
          </a:xfrm>
          <a:prstGeom prst="wedgeRoundRectCallout">
            <a:avLst>
              <a:gd name="adj1" fmla="val 3611"/>
              <a:gd name="adj2" fmla="val 7732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3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8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9"/>
          <p:cNvCxnSpPr>
            <a:stCxn id="454" idx="3"/>
            <a:endCxn id="45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7" name="Rectangle 10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AutoShape 11"/>
          <p:cNvCxnSpPr>
            <a:stCxn id="450" idx="0"/>
            <a:endCxn id="45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60" name="Group 12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461" name="Oval 13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14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15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Oval 16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17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AutoShape 18"/>
          <p:cNvCxnSpPr>
            <a:stCxn id="464" idx="0"/>
            <a:endCxn id="450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6" name="Text Box 19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0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21"/>
          <p:cNvCxnSpPr>
            <a:stCxn id="467" idx="2"/>
            <a:endCxn id="461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Rectangle 22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AutoShape 24"/>
          <p:cNvCxnSpPr>
            <a:stCxn id="470" idx="0"/>
            <a:endCxn id="463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2" name="Rectangle 25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26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28"/>
          <p:cNvCxnSpPr>
            <a:stCxn id="452" idx="3"/>
            <a:endCxn id="473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76" name="Rectangle 29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0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480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" name="AutoShape 6"/>
            <p:cNvCxnSpPr>
              <a:stCxn id="480" idx="3"/>
              <a:endCxn id="483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484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483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490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AutoShape 5"/>
            <p:cNvCxnSpPr>
              <a:stCxn id="490" idx="2"/>
              <a:endCxn id="492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93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492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498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1" name="AutoShape 15"/>
            <p:cNvCxnSpPr>
              <a:stCxn id="490" idx="3"/>
              <a:endCxn id="498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2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506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AutoShape 7"/>
            <p:cNvCxnSpPr>
              <a:stCxn id="507" idx="3"/>
              <a:endCxn id="510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11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510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516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19" name="AutoShape 17"/>
            <p:cNvCxnSpPr>
              <a:stCxn id="513" idx="3"/>
              <a:endCxn id="516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0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2" name="AutoShape 20"/>
            <p:cNvCxnSpPr>
              <a:stCxn id="521" idx="3"/>
              <a:endCxn id="523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24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523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26" name="AutoShape 24"/>
            <p:cNvCxnSpPr>
              <a:stCxn id="527" idx="2"/>
              <a:endCxn id="513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528" name="AutoShape 25"/>
            <p:cNvCxnSpPr>
              <a:stCxn id="527" idx="2"/>
              <a:endCxn id="507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529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533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534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6" name="AutoShape 6"/>
            <p:cNvCxnSpPr>
              <a:stCxn id="534" idx="2"/>
              <a:endCxn id="535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7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542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AutoShape 14"/>
            <p:cNvCxnSpPr>
              <a:stCxn id="542" idx="2"/>
              <a:endCxn id="543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5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550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553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556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AutoShape 15"/>
            <p:cNvCxnSpPr>
              <a:stCxn id="556" idx="2"/>
              <a:endCxn id="559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1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4" name="AutoShape 19"/>
            <p:cNvCxnSpPr>
              <a:stCxn id="562" idx="4"/>
              <a:endCxn id="556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565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566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7" name="AutoShape 22"/>
            <p:cNvCxnSpPr>
              <a:stCxn id="568" idx="2"/>
              <a:endCxn id="569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0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" name="AutoShape 27"/>
            <p:cNvCxnSpPr>
              <a:stCxn id="571" idx="2"/>
              <a:endCxn id="573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4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8" name="AutoShape 33"/>
            <p:cNvCxnSpPr>
              <a:stCxn id="576" idx="4"/>
              <a:endCxn id="568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28600"/>
            <a:ext cx="7477200" cy="489096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4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635040"/>
          <a:ext cx="9144000" cy="57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5040"/>
                    <a:ext cx="9144000" cy="57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3"/>
          <p:cNvSpPr/>
          <p:nvPr/>
        </p:nvSpPr>
        <p:spPr>
          <a:xfrm>
            <a:off x="110520" y="122400"/>
            <a:ext cx="84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 composition of a low-rise steel-framed industrial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3" name="AutoShape 18"/>
          <p:cNvCxnSpPr>
            <a:stCxn id="96" idx="2"/>
            <a:endCxn id="9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" name="AutoShape 19"/>
          <p:cNvCxnSpPr>
            <a:stCxn id="96" idx="2"/>
            <a:endCxn id="10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9"/>
          <p:cNvCxnSpPr>
            <a:stCxn id="108" idx="0"/>
            <a:endCxn id="11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" name="AutoShape 70"/>
          <p:cNvCxnSpPr>
            <a:stCxn id="107" idx="0"/>
            <a:endCxn id="11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72"/>
          <p:cNvCxnSpPr>
            <a:stCxn id="116" idx="0"/>
            <a:endCxn id="12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74"/>
          <p:cNvCxnSpPr>
            <a:stCxn id="113" idx="0"/>
            <a:endCxn id="12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AutoShape 78"/>
          <p:cNvCxnSpPr>
            <a:stCxn id="110" idx="0"/>
            <a:endCxn id="12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AutoShape 80"/>
          <p:cNvCxnSpPr>
            <a:stCxn id="114" idx="0"/>
            <a:endCxn id="12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7092"/>
              <a:gd name="adj2" fmla="val 8450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82800" y="14684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83000" y="1295280"/>
            <a:ext cx="26434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956200" y="15746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7"/>
          <p:cNvCxnSpPr>
            <a:stCxn id="140" idx="2"/>
            <a:endCxn id="138" idx="3"/>
          </p:cNvCxnSpPr>
          <p:nvPr/>
        </p:nvCxnSpPr>
        <p:spPr>
          <a:xfrm flipH="1">
            <a:off x="3719160" y="1668240"/>
            <a:ext cx="2208960" cy="133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42" name="AutoShape 8"/>
          <p:cNvCxnSpPr>
            <a:stCxn id="139" idx="2"/>
            <a:endCxn id="143" idx="0"/>
          </p:cNvCxnSpPr>
          <p:nvPr/>
        </p:nvCxnSpPr>
        <p:spPr>
          <a:xfrm flipH="1">
            <a:off x="7498800" y="2039400"/>
            <a:ext cx="6840" cy="729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4" name="Text Box 9"/>
          <p:cNvSpPr/>
          <p:nvPr/>
        </p:nvSpPr>
        <p:spPr>
          <a:xfrm>
            <a:off x="7545240" y="2286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4893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6396840" y="487044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49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1" name="AutoShape 19"/>
          <p:cNvCxnSpPr>
            <a:stCxn id="152" idx="3"/>
            <a:endCxn id="150" idx="2"/>
          </p:cNvCxnSpPr>
          <p:nvPr/>
        </p:nvCxnSpPr>
        <p:spPr>
          <a:xfrm>
            <a:off x="3919320" y="2841480"/>
            <a:ext cx="1680120" cy="154224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3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9"/>
          <p:cNvGrpSpPr/>
          <p:nvPr/>
        </p:nvGrpSpPr>
        <p:grpSpPr>
          <a:xfrm>
            <a:off x="785880" y="2400480"/>
            <a:ext cx="3119400" cy="626040"/>
            <a:chOff x="785880" y="2400480"/>
            <a:chExt cx="3119400" cy="626040"/>
          </a:xfrm>
        </p:grpSpPr>
        <p:sp>
          <p:nvSpPr>
            <p:cNvPr id="152" name="Rectangle 14"/>
            <p:cNvSpPr/>
            <p:nvPr/>
          </p:nvSpPr>
          <p:spPr>
            <a:xfrm>
              <a:off x="7858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26"/>
            <p:cNvSpPr/>
            <p:nvPr/>
          </p:nvSpPr>
          <p:spPr>
            <a:xfrm>
              <a:off x="22384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" name="AutoShape 27"/>
          <p:cNvCxnSpPr>
            <a:stCxn id="138" idx="2"/>
            <a:endCxn id="155" idx="0"/>
          </p:cNvCxnSpPr>
          <p:nvPr/>
        </p:nvCxnSpPr>
        <p:spPr>
          <a:xfrm rot="5400000">
            <a:off x="2105640" y="2133360"/>
            <a:ext cx="464400" cy="13320"/>
          </a:xfrm>
          <a:prstGeom prst="bentConnector3">
            <a:avLst>
              <a:gd name="adj1" fmla="val 5135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57" name="AutoShape 29"/>
          <p:cNvCxnSpPr>
            <a:stCxn id="158" idx="0"/>
            <a:endCxn id="149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9" name="Group 31"/>
          <p:cNvGrpSpPr/>
          <p:nvPr/>
        </p:nvGrpSpPr>
        <p:grpSpPr>
          <a:xfrm>
            <a:off x="816480" y="4068720"/>
            <a:ext cx="858240" cy="398880"/>
            <a:chOff x="816480" y="4068720"/>
            <a:chExt cx="858240" cy="398880"/>
          </a:xfrm>
        </p:grpSpPr>
        <p:sp>
          <p:nvSpPr>
            <p:cNvPr id="160" name="Text Box 32"/>
            <p:cNvSpPr/>
            <p:nvPr/>
          </p:nvSpPr>
          <p:spPr>
            <a:xfrm>
              <a:off x="816480" y="40687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33"/>
            <p:cNvSpPr/>
            <p:nvPr/>
          </p:nvSpPr>
          <p:spPr>
            <a:xfrm>
              <a:off x="1487520" y="41702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34"/>
          <p:cNvGrpSpPr/>
          <p:nvPr/>
        </p:nvGrpSpPr>
        <p:grpSpPr>
          <a:xfrm>
            <a:off x="440280" y="3541680"/>
            <a:ext cx="1234440" cy="398880"/>
            <a:chOff x="440280" y="3541680"/>
            <a:chExt cx="1234440" cy="398880"/>
          </a:xfrm>
        </p:grpSpPr>
        <p:sp>
          <p:nvSpPr>
            <p:cNvPr id="163" name="Text Box 35"/>
            <p:cNvSpPr/>
            <p:nvPr/>
          </p:nvSpPr>
          <p:spPr>
            <a:xfrm>
              <a:off x="440280" y="35416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487520" y="3657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37"/>
          <p:cNvGrpSpPr/>
          <p:nvPr/>
        </p:nvGrpSpPr>
        <p:grpSpPr>
          <a:xfrm>
            <a:off x="339120" y="4589640"/>
            <a:ext cx="1335240" cy="398880"/>
            <a:chOff x="339120" y="4589640"/>
            <a:chExt cx="1335240" cy="398880"/>
          </a:xfrm>
        </p:grpSpPr>
        <p:sp>
          <p:nvSpPr>
            <p:cNvPr id="166" name="Text Box 38"/>
            <p:cNvSpPr/>
            <p:nvPr/>
          </p:nvSpPr>
          <p:spPr>
            <a:xfrm>
              <a:off x="339120" y="45896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39"/>
            <p:cNvSpPr/>
            <p:nvPr/>
          </p:nvSpPr>
          <p:spPr>
            <a:xfrm>
              <a:off x="1487160" y="4707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40"/>
          <p:cNvSpPr/>
          <p:nvPr/>
        </p:nvSpPr>
        <p:spPr>
          <a:xfrm>
            <a:off x="1990440" y="3276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41"/>
          <p:cNvCxnSpPr>
            <a:stCxn id="152" idx="2"/>
            <a:endCxn id="164" idx="6"/>
          </p:cNvCxnSpPr>
          <p:nvPr/>
        </p:nvCxnSpPr>
        <p:spPr>
          <a:xfrm rot="5400000">
            <a:off x="1683720" y="3088440"/>
            <a:ext cx="68292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0" name="AutoShape 42"/>
          <p:cNvCxnSpPr>
            <a:stCxn id="152" idx="2"/>
            <a:endCxn id="161" idx="6"/>
          </p:cNvCxnSpPr>
          <p:nvPr/>
        </p:nvCxnSpPr>
        <p:spPr>
          <a:xfrm rot="5400000">
            <a:off x="1427040" y="3344760"/>
            <a:ext cx="11962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3"/>
          <p:cNvCxnSpPr>
            <a:stCxn id="152" idx="2"/>
            <a:endCxn id="167" idx="6"/>
          </p:cNvCxnSpPr>
          <p:nvPr/>
        </p:nvCxnSpPr>
        <p:spPr>
          <a:xfrm rot="5400000">
            <a:off x="1158840" y="3612960"/>
            <a:ext cx="17326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2" name="Rectangle 45"/>
          <p:cNvSpPr/>
          <p:nvPr/>
        </p:nvSpPr>
        <p:spPr>
          <a:xfrm>
            <a:off x="20368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48"/>
          <p:cNvGrpSpPr/>
          <p:nvPr/>
        </p:nvGrpSpPr>
        <p:grpSpPr>
          <a:xfrm>
            <a:off x="180360" y="5153040"/>
            <a:ext cx="1479960" cy="703800"/>
            <a:chOff x="180360" y="5153040"/>
            <a:chExt cx="1479960" cy="703800"/>
          </a:xfrm>
        </p:grpSpPr>
        <p:sp>
          <p:nvSpPr>
            <p:cNvPr id="174" name="Text Box 23"/>
            <p:cNvSpPr/>
            <p:nvPr/>
          </p:nvSpPr>
          <p:spPr>
            <a:xfrm>
              <a:off x="180360" y="5153040"/>
              <a:ext cx="12582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473120" y="5443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AutoShape 47"/>
          <p:cNvCxnSpPr>
            <a:stCxn id="152" idx="2"/>
            <a:endCxn id="175" idx="6"/>
          </p:cNvCxnSpPr>
          <p:nvPr/>
        </p:nvCxnSpPr>
        <p:spPr>
          <a:xfrm rot="5400000">
            <a:off x="783000" y="3974040"/>
            <a:ext cx="2469240" cy="65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7" name="Rectangle 50"/>
          <p:cNvSpPr/>
          <p:nvPr/>
        </p:nvSpPr>
        <p:spPr>
          <a:xfrm>
            <a:off x="3969000" y="243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422784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52"/>
          <p:cNvSpPr/>
          <p:nvPr/>
        </p:nvSpPr>
        <p:spPr>
          <a:xfrm>
            <a:off x="7423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1477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8"/>
          <p:cNvCxnSpPr>
            <a:stCxn id="182" idx="2"/>
            <a:endCxn id="180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4" name="AutoShape 9"/>
          <p:cNvCxnSpPr>
            <a:stCxn id="181" idx="2"/>
            <a:endCxn id="185" idx="0"/>
          </p:cNvCxnSpPr>
          <p:nvPr/>
        </p:nvCxnSpPr>
        <p:spPr>
          <a:xfrm flipH="1">
            <a:off x="748476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193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197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0"/>
          <p:cNvSpPr/>
          <p:nvPr/>
        </p:nvSpPr>
        <p:spPr>
          <a:xfrm>
            <a:off x="1265400" y="5559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31"/>
          <p:cNvCxnSpPr>
            <a:stCxn id="193" idx="2"/>
            <a:endCxn id="202" idx="0"/>
          </p:cNvCxnSpPr>
          <p:nvPr/>
        </p:nvCxnSpPr>
        <p:spPr>
          <a:xfrm>
            <a:off x="1355400" y="4668840"/>
            <a:ext cx="396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4" name="AutoShape 32"/>
          <p:cNvCxnSpPr>
            <a:stCxn id="197" idx="2"/>
            <a:endCxn id="201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5" name="AutoShape 33"/>
          <p:cNvCxnSpPr>
            <a:stCxn id="190" idx="3"/>
            <a:endCxn id="199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AutoShape 34"/>
          <p:cNvCxnSpPr>
            <a:stCxn id="191" idx="3"/>
            <a:endCxn id="200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AutoShape 35"/>
          <p:cNvCxnSpPr>
            <a:stCxn id="180" idx="2"/>
            <a:endCxn id="194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8" name="AutoShape 36"/>
          <p:cNvCxnSpPr>
            <a:stCxn id="180" idx="2"/>
            <a:endCxn id="198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9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1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9"/>
          <p:cNvCxnSpPr>
            <a:stCxn id="214" idx="3"/>
            <a:endCxn id="21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8" name="AutoShape 10"/>
          <p:cNvCxnSpPr>
            <a:stCxn id="211" idx="0"/>
            <a:endCxn id="21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9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20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222" name="Oval 16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25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22"/>
          <p:cNvCxnSpPr>
            <a:stCxn id="227" idx="2"/>
            <a:endCxn id="21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9" name="AutoShape 23"/>
          <p:cNvCxnSpPr>
            <a:stCxn id="227" idx="2"/>
            <a:endCxn id="225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0" name="AutoShape 24"/>
          <p:cNvCxnSpPr>
            <a:stCxn id="227" idx="2"/>
            <a:endCxn id="222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31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27"/>
          <p:cNvCxnSpPr>
            <a:stCxn id="223" idx="3"/>
            <a:endCxn id="220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226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4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026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027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028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39" name="Text Box 1029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Oval 1030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Oval 1031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1032"/>
          <p:cNvCxnSpPr>
            <a:stCxn id="239" idx="3"/>
            <a:endCxn id="24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3" name="AutoShape 1033"/>
          <p:cNvCxnSpPr>
            <a:stCxn id="236" idx="0"/>
            <a:endCxn id="24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4" name="Rectangle 1034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35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6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AutoShape 1037"/>
          <p:cNvCxnSpPr>
            <a:stCxn id="246" idx="2"/>
            <a:endCxn id="23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48" name="Rectangle 1039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40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47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59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64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077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54" name="Oval 1066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067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068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1079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58" name="Oval 1070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071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72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AutoShape 1074"/>
          <p:cNvCxnSpPr>
            <a:stCxn id="250" idx="2"/>
            <a:endCxn id="258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2" name="Rectangle 1075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76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1078"/>
          <p:cNvCxnSpPr>
            <a:stCxn id="265" idx="2"/>
            <a:endCxn id="254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Text Box 1083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084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092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268" name="Text Box 1086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087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089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1" name="AutoShape 1090"/>
          <p:cNvCxnSpPr>
            <a:stCxn id="266" idx="3"/>
            <a:endCxn id="269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2" name="Rectangle 1091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8"/>
          <p:cNvCxnSpPr>
            <a:stCxn id="276" idx="3"/>
            <a:endCxn id="27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0" name="AutoShape 9"/>
          <p:cNvCxnSpPr>
            <a:stCxn id="273" idx="0"/>
            <a:endCxn id="27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AutoShape 19"/>
          <p:cNvCxnSpPr>
            <a:stCxn id="283" idx="2"/>
            <a:endCxn id="27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5" name="AutoShape 21"/>
          <p:cNvCxnSpPr>
            <a:stCxn id="286" idx="2"/>
            <a:endCxn id="287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24"/>
          <p:cNvCxnSpPr>
            <a:stCxn id="291" idx="3"/>
            <a:endCxn id="282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AutoShape 27"/>
          <p:cNvCxnSpPr>
            <a:stCxn id="286" idx="2"/>
            <a:endCxn id="295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5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291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9" name="AutoShape 36"/>
          <p:cNvCxnSpPr>
            <a:stCxn id="286" idx="2"/>
            <a:endCxn id="298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0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AutoShape 42"/>
          <p:cNvCxnSpPr>
            <a:stCxn id="296" idx="2"/>
            <a:endCxn id="302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4"/>
          <p:cNvSpPr/>
          <p:nvPr/>
        </p:nvSpPr>
        <p:spPr>
          <a:xfrm>
            <a:off x="7172280" y="526428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8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9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19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19"/>
          <p:cNvCxnSpPr>
            <a:stCxn id="321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AutoShape 20"/>
          <p:cNvCxnSpPr>
            <a:stCxn id="321" idx="2"/>
            <a:endCxn id="319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AutoShape 21"/>
          <p:cNvCxnSpPr>
            <a:stCxn id="325" idx="2"/>
            <a:endCxn id="326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7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AutoShape 24"/>
          <p:cNvCxnSpPr>
            <a:stCxn id="330" idx="3"/>
            <a:endCxn id="317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31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34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26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35"/>
          <p:cNvCxnSpPr>
            <a:stCxn id="325" idx="2"/>
            <a:endCxn id="337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9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AutoShape 40"/>
          <p:cNvCxnSpPr>
            <a:stCxn id="335" idx="3"/>
            <a:endCxn id="341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28Z</dcterms:modified>
  <cp:revision>64</cp:revision>
  <dc:subject/>
  <dc:title>No Slide Title</dc:title>
</cp:coreProperties>
</file>